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20.jpeg" ContentType="image/jpeg"/>
  <Override PartName="/ppt/media/image15.jpeg" ContentType="image/jpeg"/>
  <Override PartName="/ppt/media/image7.jpeg" ContentType="image/jpeg"/>
  <Override PartName="/ppt/media/image18.png" ContentType="image/png"/>
  <Override PartName="/ppt/media/image19.png" ContentType="image/png"/>
  <Override PartName="/ppt/media/image3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4.png" ContentType="image/png"/>
  <Override PartName="/ppt/media/image1.jpeg" ContentType="image/jpeg"/>
  <Override PartName="/ppt/media/image2.jpeg" ContentType="image/jpe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48BC1-2879-463E-9034-F505FDBE6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F9965-40B3-459E-A347-A266896B3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6689F-D323-4EE0-964D-02D393433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F633F-DA7C-4861-B019-626CAB178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9C62C-01B2-44FE-9AE9-6A260ED58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7E233-356F-4B2F-A2CA-24C9F1DFC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660AE-5DA6-4890-979E-8631E0D8F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7976D-4BD0-4560-8659-09F010658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730A6-F761-4387-B4D4-5584FAD67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915BD-3E34-4A1C-BAD7-48EB075E4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4331A-D0DC-44E9-B91C-5BE327326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1E9EC-FF78-44A6-8C45-0E010A1B9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C7D2C-CF90-4508-8F38-9D7540A146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itre 1"/>
          <p:cNvSpPr/>
          <p:nvPr/>
        </p:nvSpPr>
        <p:spPr>
          <a:xfrm>
            <a:off x="1943280" y="3429000"/>
            <a:ext cx="6771960" cy="13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5400" spc="-1" strike="noStrike">
                <a:solidFill>
                  <a:srgbClr val="ffffff"/>
                </a:solidFill>
                <a:latin typeface="Arial"/>
              </a:rPr>
              <a:t>Inny porządek rzecz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Sous-titre 2"/>
          <p:cNvSpPr/>
          <p:nvPr/>
        </p:nvSpPr>
        <p:spPr>
          <a:xfrm>
            <a:off x="2124000" y="4543560"/>
            <a:ext cx="626436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Taksonomie internetowe 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a języki informacyjno-wyszukiwawc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1979640" y="333360"/>
            <a:ext cx="6953400" cy="565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itre 1"/>
          <p:cNvSpPr/>
          <p:nvPr/>
        </p:nvSpPr>
        <p:spPr>
          <a:xfrm>
            <a:off x="1928880" y="274680"/>
            <a:ext cx="6757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Wykorzystani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Espace réservé du contenu 2"/>
          <p:cNvSpPr/>
          <p:nvPr/>
        </p:nvSpPr>
        <p:spPr>
          <a:xfrm>
            <a:off x="1928880" y="1782720"/>
            <a:ext cx="67579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Schemat organizacji serwis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Narzędzie indeksowan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Budowa narzędzi nawigacyjny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itre 1"/>
          <p:cNvSpPr/>
          <p:nvPr/>
        </p:nvSpPr>
        <p:spPr>
          <a:xfrm>
            <a:off x="1928880" y="274680"/>
            <a:ext cx="6757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Wykorzystanie / Schemat organizacji serwis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1835280" y="1619280"/>
            <a:ext cx="7164360" cy="52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itre 1"/>
          <p:cNvSpPr/>
          <p:nvPr/>
        </p:nvSpPr>
        <p:spPr>
          <a:xfrm>
            <a:off x="1928880" y="274680"/>
            <a:ext cx="6757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Wykorzystanie / Narzędzie indeksowan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52280" y="1628640"/>
            <a:ext cx="8839440" cy="51246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4284720" y="6165720"/>
            <a:ext cx="1008000" cy="549360"/>
          </a:xfrm>
          <a:prstGeom prst="leftArrow">
            <a:avLst>
              <a:gd name="adj1" fmla="val 50000"/>
              <a:gd name="adj2" fmla="val 45872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itre 1"/>
          <p:cNvSpPr/>
          <p:nvPr/>
        </p:nvSpPr>
        <p:spPr>
          <a:xfrm>
            <a:off x="1928880" y="274680"/>
            <a:ext cx="6757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Wykorzystanie / Schematy nawigacyj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539640" y="1557360"/>
            <a:ext cx="8456760" cy="52801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179280" y="4365720"/>
            <a:ext cx="792360" cy="9349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itre 1"/>
          <p:cNvSpPr/>
          <p:nvPr/>
        </p:nvSpPr>
        <p:spPr>
          <a:xfrm>
            <a:off x="1928880" y="274680"/>
            <a:ext cx="6757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Funkcj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Espace réservé du contenu 2"/>
          <p:cNvSpPr/>
          <p:nvPr/>
        </p:nvSpPr>
        <p:spPr>
          <a:xfrm>
            <a:off x="1928880" y="1782720"/>
            <a:ext cx="67579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Metainformacyj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Odwzorowanie istotnych cech treści i formy obiektów informacyjny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Wyszukiwawcz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Adaptacja w mechanizmach wyszukiwawczy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itre 1"/>
          <p:cNvSpPr/>
          <p:nvPr/>
        </p:nvSpPr>
        <p:spPr>
          <a:xfrm>
            <a:off x="1928880" y="274680"/>
            <a:ext cx="6757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Rodzaj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Espace réservé du contenu 2"/>
          <p:cNvSpPr/>
          <p:nvPr/>
        </p:nvSpPr>
        <p:spPr>
          <a:xfrm>
            <a:off x="1928880" y="1782720"/>
            <a:ext cx="67579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Indeksują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Nawigacyj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24829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24829f"/>
                </a:solidFill>
                <a:latin typeface="Arial"/>
              </a:rPr>
              <a:t>Hipertekstowe katalogi systematyczn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2003400" y="1698480"/>
            <a:ext cx="6600960" cy="4394520"/>
          </a:xfrm>
          <a:prstGeom prst="rect">
            <a:avLst/>
          </a:prstGeom>
          <a:ln w="0">
            <a:noFill/>
          </a:ln>
        </p:spPr>
      </p:pic>
      <p:sp>
        <p:nvSpPr>
          <p:cNvPr id="74" name="Titre 1"/>
          <p:cNvSpPr/>
          <p:nvPr/>
        </p:nvSpPr>
        <p:spPr>
          <a:xfrm>
            <a:off x="1928880" y="274680"/>
            <a:ext cx="6757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Budow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itre 1"/>
          <p:cNvSpPr/>
          <p:nvPr/>
        </p:nvSpPr>
        <p:spPr>
          <a:xfrm>
            <a:off x="1928880" y="274680"/>
            <a:ext cx="6757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Budow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Espace réservé du contenu 2"/>
          <p:cNvSpPr/>
          <p:nvPr/>
        </p:nvSpPr>
        <p:spPr>
          <a:xfrm>
            <a:off x="1928880" y="1782720"/>
            <a:ext cx="67579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560520" indent="-560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Katego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1160" indent="-490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Nazwy w języku naturalny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1160" indent="-490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Krótkie formy naz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Struktura drzewiasta / relacje hierarchicz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61800" indent="-420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Biznes i Ekonomi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61800" indent="-420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61800" indent="-420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Budownictw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61800" indent="-420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Fina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61800" indent="-420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itre 1"/>
          <p:cNvSpPr/>
          <p:nvPr/>
        </p:nvSpPr>
        <p:spPr>
          <a:xfrm>
            <a:off x="1928880" y="274680"/>
            <a:ext cx="6757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Wyszukiwanie</a:t>
            </a: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Espace réservé du contenu 2"/>
          <p:cNvSpPr/>
          <p:nvPr/>
        </p:nvSpPr>
        <p:spPr>
          <a:xfrm>
            <a:off x="1928880" y="1782720"/>
            <a:ext cx="67579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Eksploracja struktu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Technika przeglądania 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(ang. brows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Odnalezienie kategor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Analiza przyporządkowanych do kategorii obiektó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Analiza wyodrębnionych podkategor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928880" y="274320"/>
            <a:ext cx="6757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Plan wystąpienia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1928880" y="1413000"/>
            <a:ext cx="6757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Czym jest taksonomia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Czym jest taksonomia internetowa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Budowa taksonomii internetowej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Wykorzystanie JIW w tworzeniu taksonomii internetowy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268360" y="1268280"/>
            <a:ext cx="6264360" cy="5473800"/>
          </a:xfrm>
          <a:prstGeom prst="rect">
            <a:avLst/>
          </a:prstGeom>
          <a:ln w="0">
            <a:noFill/>
          </a:ln>
        </p:spPr>
      </p:pic>
      <p:sp>
        <p:nvSpPr>
          <p:cNvPr id="80" name="Titre 1"/>
          <p:cNvSpPr/>
          <p:nvPr/>
        </p:nvSpPr>
        <p:spPr>
          <a:xfrm>
            <a:off x="1928880" y="274680"/>
            <a:ext cx="6757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Funkcjonowanie</a:t>
            </a: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572000" y="5661000"/>
            <a:ext cx="720720" cy="287280"/>
          </a:xfrm>
          <a:prstGeom prst="rightArrow">
            <a:avLst>
              <a:gd name="adj1" fmla="val 50000"/>
              <a:gd name="adj2" fmla="val 62719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itre 1"/>
          <p:cNvSpPr/>
          <p:nvPr/>
        </p:nvSpPr>
        <p:spPr>
          <a:xfrm>
            <a:off x="1928880" y="274680"/>
            <a:ext cx="6757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Funkcjonowanie</a:t>
            </a: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2203560" y="1590840"/>
            <a:ext cx="6184800" cy="500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itre 1"/>
          <p:cNvSpPr/>
          <p:nvPr/>
        </p:nvSpPr>
        <p:spPr>
          <a:xfrm>
            <a:off x="1928880" y="274680"/>
            <a:ext cx="6757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Udział JIW w budow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Espace réservé du contenu 2"/>
          <p:cNvSpPr/>
          <p:nvPr/>
        </p:nvSpPr>
        <p:spPr>
          <a:xfrm>
            <a:off x="1928880" y="1782720"/>
            <a:ext cx="67579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Wykorzystanie zasobu leksykalnego do </a:t>
            </a:r>
            <a:r>
              <a:rPr b="0" lang="pl-PL" sz="3200" spc="-1" strike="noStrike">
                <a:solidFill>
                  <a:srgbClr val="24829f"/>
                </a:solidFill>
                <a:latin typeface="Arial"/>
              </a:rPr>
              <a:t>nazywania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 kategor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Wykorzystanie istniejących klasyfikacji do </a:t>
            </a:r>
            <a:r>
              <a:rPr b="0" lang="pl-PL" sz="3200" spc="-1" strike="noStrike">
                <a:solidFill>
                  <a:srgbClr val="24829f"/>
                </a:solidFill>
                <a:latin typeface="Arial"/>
              </a:rPr>
              <a:t>budowy struktu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1835280" y="44280"/>
            <a:ext cx="7345080" cy="5484960"/>
          </a:xfrm>
          <a:prstGeom prst="rect">
            <a:avLst/>
          </a:prstGeom>
          <a:ln w="0">
            <a:noFill/>
          </a:ln>
        </p:spPr>
      </p:pic>
      <p:sp>
        <p:nvSpPr>
          <p:cNvPr id="87" name="Espace réservé du contenu 2"/>
          <p:cNvSpPr/>
          <p:nvPr/>
        </p:nvSpPr>
        <p:spPr>
          <a:xfrm>
            <a:off x="1908000" y="5589720"/>
            <a:ext cx="6758280" cy="20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zaurus HASSET (Humanities And Social Sciences Electronic Thesaurus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ial Research Methodology (SRM-Thesaurus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rot="18395400">
            <a:off x="5616360" y="2887200"/>
            <a:ext cx="2592360" cy="649440"/>
          </a:xfrm>
          <a:prstGeom prst="leftArrow">
            <a:avLst>
              <a:gd name="adj1" fmla="val 50000"/>
              <a:gd name="adj2" fmla="val 99792"/>
            </a:avLst>
          </a:prstGeom>
          <a:noFill/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108000" y="115920"/>
            <a:ext cx="8962920" cy="5343480"/>
          </a:xfrm>
          <a:prstGeom prst="rect">
            <a:avLst/>
          </a:prstGeom>
          <a:ln w="0">
            <a:noFill/>
          </a:ln>
        </p:spPr>
      </p:pic>
      <p:sp>
        <p:nvSpPr>
          <p:cNvPr id="90" name="Espace réservé du contenu 2"/>
          <p:cNvSpPr/>
          <p:nvPr/>
        </p:nvSpPr>
        <p:spPr>
          <a:xfrm>
            <a:off x="1403280" y="5300640"/>
            <a:ext cx="675792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Klasyfikacja Dziesiętna Dewey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rozbudowa klasy </a:t>
            </a:r>
            <a:r>
              <a:rPr b="0" i="1" lang="pl-PL" sz="1800" spc="-1" strike="noStrike">
                <a:solidFill>
                  <a:srgbClr val="000000"/>
                </a:solidFill>
                <a:latin typeface="Arial"/>
              </a:rPr>
              <a:t>000 Dzieła o treści ogólnej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itre 1"/>
          <p:cNvSpPr/>
          <p:nvPr/>
        </p:nvSpPr>
        <p:spPr>
          <a:xfrm>
            <a:off x="1928880" y="274680"/>
            <a:ext cx="6757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Udział JIW w budow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Espace réservé du contenu 2"/>
          <p:cNvSpPr/>
          <p:nvPr/>
        </p:nvSpPr>
        <p:spPr>
          <a:xfrm>
            <a:off x="1928880" y="1782720"/>
            <a:ext cx="67579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Najczęściej spotykane modele organizacji taksonomii internetowych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Struktury monohierarchicz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Struktury polirelacyj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Duża popularność </a:t>
            </a:r>
            <a:r>
              <a:rPr b="0" lang="pl-PL" sz="3200" spc="-1" strike="noStrike">
                <a:solidFill>
                  <a:srgbClr val="24829f"/>
                </a:solidFill>
                <a:latin typeface="Arial"/>
              </a:rPr>
              <a:t>taksonomii fasetowy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9360" y="1689120"/>
            <a:ext cx="9026640" cy="49798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6730920" y="4148280"/>
            <a:ext cx="720720" cy="3603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1916280"/>
            <a:ext cx="9144000" cy="51163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1125360"/>
            <a:ext cx="9059760" cy="535464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3132000" y="2637000"/>
            <a:ext cx="935280" cy="2887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-36360" y="941400"/>
            <a:ext cx="9272520" cy="565632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7524720" y="4653000"/>
            <a:ext cx="1619280" cy="2016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90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0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itre 1"/>
          <p:cNvSpPr/>
          <p:nvPr/>
        </p:nvSpPr>
        <p:spPr>
          <a:xfrm>
            <a:off x="1928880" y="274680"/>
            <a:ext cx="6757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Czym jest taksonomia?</a:t>
            </a: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Espace réservé du contenu 2"/>
          <p:cNvSpPr/>
          <p:nvPr/>
        </p:nvSpPr>
        <p:spPr>
          <a:xfrm>
            <a:off x="1928880" y="1782720"/>
            <a:ext cx="67579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Taksonomia = systematyka biologicz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Systematyka = klasyfikacja obiektów jednorodnych empiryczn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2482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24829f"/>
                </a:solidFill>
                <a:latin typeface="Arial"/>
              </a:rPr>
              <a:t>Taksonomia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 = szczególny rodzaj klasyfikacj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-36360" y="941400"/>
            <a:ext cx="9272520" cy="565632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-108000" y="907920"/>
            <a:ext cx="9325080" cy="59500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2411280" y="1125360"/>
            <a:ext cx="2044800" cy="256572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2425680" y="1125360"/>
            <a:ext cx="2016000" cy="25909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4716360" y="1125360"/>
            <a:ext cx="1990800" cy="561672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4716360" y="1125360"/>
            <a:ext cx="2016360" cy="56167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708360" y="2852640"/>
            <a:ext cx="576360" cy="217440"/>
          </a:xfrm>
          <a:prstGeom prst="leftArrow">
            <a:avLst>
              <a:gd name="adj1" fmla="val 50000"/>
              <a:gd name="adj2" fmla="val 66267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435640" y="3139920"/>
            <a:ext cx="576360" cy="217800"/>
          </a:xfrm>
          <a:prstGeom prst="leftArrow">
            <a:avLst>
              <a:gd name="adj1" fmla="val 50000"/>
              <a:gd name="adj2" fmla="val 66157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90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7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-36360" y="954000"/>
            <a:ext cx="9057960" cy="535464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90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itre 1"/>
          <p:cNvSpPr/>
          <p:nvPr/>
        </p:nvSpPr>
        <p:spPr>
          <a:xfrm>
            <a:off x="1928880" y="274680"/>
            <a:ext cx="6757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Wniosk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Espace réservé du contenu 2"/>
          <p:cNvSpPr/>
          <p:nvPr/>
        </p:nvSpPr>
        <p:spPr>
          <a:xfrm>
            <a:off x="1928880" y="1782720"/>
            <a:ext cx="67579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Popularne narzędzie organizacji informacji w środowisku WW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Udział JIW w budowie taksonom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Różne modele organizacyjne taksonomii (mono- i polihierarchiczn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itre 1"/>
          <p:cNvSpPr/>
          <p:nvPr/>
        </p:nvSpPr>
        <p:spPr>
          <a:xfrm>
            <a:off x="1928880" y="274680"/>
            <a:ext cx="6757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Wniosk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Espace réservé du contenu 2"/>
          <p:cNvSpPr/>
          <p:nvPr/>
        </p:nvSpPr>
        <p:spPr>
          <a:xfrm>
            <a:off x="1928880" y="1782720"/>
            <a:ext cx="67579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Potrzeba</a:t>
            </a:r>
            <a:r>
              <a:rPr b="0" lang="pl-PL" sz="3200" spc="-1" strike="noStrike">
                <a:solidFill>
                  <a:srgbClr val="24829f"/>
                </a:solidFill>
                <a:latin typeface="Arial"/>
              </a:rPr>
              <a:t> 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opracowania </a:t>
            </a:r>
            <a:r>
              <a:rPr b="0" lang="pl-PL" sz="3200" spc="-1" strike="noStrike">
                <a:solidFill>
                  <a:srgbClr val="24829f"/>
                </a:solidFill>
                <a:latin typeface="Arial"/>
              </a:rPr>
              <a:t>metodyki tworzenia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 taksonomii z wykorzystaniem JIW (doświadczenia z katalogiem systematyczny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itre 1"/>
          <p:cNvSpPr/>
          <p:nvPr/>
        </p:nvSpPr>
        <p:spPr>
          <a:xfrm>
            <a:off x="1928880" y="274680"/>
            <a:ext cx="6757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Dziękuję za uwagę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Espace réservé du contenu 2"/>
          <p:cNvSpPr/>
          <p:nvPr/>
        </p:nvSpPr>
        <p:spPr>
          <a:xfrm>
            <a:off x="1928880" y="1782720"/>
            <a:ext cx="67579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Marcin Roszkowsk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Uniwersytet Jana Kochanowskie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Filia w Piotrkowie Trybunalski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24829f"/>
                </a:solidFill>
                <a:latin typeface="Arial"/>
              </a:rPr>
              <a:t>roszmar@poczta.onet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itre 1"/>
          <p:cNvSpPr/>
          <p:nvPr/>
        </p:nvSpPr>
        <p:spPr>
          <a:xfrm>
            <a:off x="1928880" y="274680"/>
            <a:ext cx="6757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Cel taksonom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Espace réservé du contenu 2"/>
          <p:cNvSpPr/>
          <p:nvPr/>
        </p:nvSpPr>
        <p:spPr>
          <a:xfrm>
            <a:off x="1928880" y="1782720"/>
            <a:ext cx="67579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Uporządkowanie w celu lepszego poznan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To, co uporządkowane łatwiej poddaje się poznani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itre 1"/>
          <p:cNvSpPr/>
          <p:nvPr/>
        </p:nvSpPr>
        <p:spPr>
          <a:xfrm>
            <a:off x="1928880" y="274680"/>
            <a:ext cx="6757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Przykł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Espace réservé du contenu 2"/>
          <p:cNvSpPr/>
          <p:nvPr/>
        </p:nvSpPr>
        <p:spPr>
          <a:xfrm>
            <a:off x="1928880" y="1782720"/>
            <a:ext cx="67579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Karol Linneusz (1707-1778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Systema Natura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Taksonomia roślin i zwierzą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- Królews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- - Ty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- - - Grom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- - - - Rzą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- - - - - Rodz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- - - - - - Plemi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- - - - - - - - Rodza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- - - - - - - - - Gatun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Espace réservé du contenu 2"/>
          <p:cNvSpPr/>
          <p:nvPr/>
        </p:nvSpPr>
        <p:spPr>
          <a:xfrm>
            <a:off x="1928880" y="1782720"/>
            <a:ext cx="67579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Ważna jest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jakość uporządkowan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dostrzeganie istotnych </a:t>
            </a:r>
            <a:r>
              <a:rPr b="0" lang="pl-PL" sz="2800" spc="-1" strike="noStrike">
                <a:solidFill>
                  <a:srgbClr val="24829f"/>
                </a:solidFill>
                <a:latin typeface="Arial"/>
              </a:rPr>
              <a:t>różnic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oraz </a:t>
            </a:r>
            <a:r>
              <a:rPr b="0" lang="pl-PL" sz="2800" spc="-1" strike="noStrike">
                <a:solidFill>
                  <a:srgbClr val="24829f"/>
                </a:solidFill>
                <a:latin typeface="Arial"/>
              </a:rPr>
              <a:t>podobieńst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Sposób patrzenia na otaczającą rzeczywistoś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itre 1"/>
          <p:cNvSpPr/>
          <p:nvPr/>
        </p:nvSpPr>
        <p:spPr>
          <a:xfrm>
            <a:off x="1928880" y="274680"/>
            <a:ext cx="6757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Przykł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Espace réservé du contenu 2"/>
          <p:cNvSpPr/>
          <p:nvPr/>
        </p:nvSpPr>
        <p:spPr>
          <a:xfrm>
            <a:off x="1928880" y="1782720"/>
            <a:ext cx="67579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Michel Foucault, </a:t>
            </a:r>
            <a:r>
              <a:rPr b="0" i="1" lang="pl-PL" sz="3200" spc="-1" strike="noStrike">
                <a:solidFill>
                  <a:srgbClr val="000000"/>
                </a:solidFill>
                <a:latin typeface="Arial"/>
              </a:rPr>
              <a:t>Porządek rzeczy: archeologia nauk humanistycznych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, Gdańsk 200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Taksonomia biologiczna pochodząca ze starożytnej chińskiej encyklopedii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28880" y="274320"/>
            <a:ext cx="6757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404040"/>
                </a:solidFill>
                <a:latin typeface="Arial"/>
              </a:rPr>
              <a:t>„</a:t>
            </a:r>
            <a:r>
              <a:rPr b="0" lang="pl-PL" sz="4400" spc="-1" strike="noStrike">
                <a:solidFill>
                  <a:srgbClr val="404040"/>
                </a:solidFill>
                <a:latin typeface="Arial"/>
              </a:rPr>
              <a:t>Zwierzęta dzielą się na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1928880" y="1413000"/>
            <a:ext cx="6757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-5850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należące do Cesarza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85000" indent="-5850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zabalsamowane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85000" indent="-5850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tresowane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85000" indent="-5850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rosięta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85000" indent="-5850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syreny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85000" indent="-5850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fantastyczne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85000" indent="-5850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bezpańskie psy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85000" indent="-5850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łączone do niniejszej klasyfikacji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85000" indent="-5850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miotające się jak szalone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85000" indent="-5850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niezliczone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85000" indent="-5850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narysowane cienkim pędzlem z wielbłądziego włosia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85000" indent="-5850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et cetera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85000" indent="-5850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które właśnie rozbiły wazon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85000" indent="-5850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które z daleka podobne są do much.”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itre 1"/>
          <p:cNvSpPr/>
          <p:nvPr/>
        </p:nvSpPr>
        <p:spPr>
          <a:xfrm>
            <a:off x="1928880" y="274680"/>
            <a:ext cx="6757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Taksonomie internetow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Espace réservé du contenu 2"/>
          <p:cNvSpPr/>
          <p:nvPr/>
        </p:nvSpPr>
        <p:spPr>
          <a:xfrm>
            <a:off x="1928880" y="1782720"/>
            <a:ext cx="67579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Popularny termin wśród </a:t>
            </a:r>
            <a:r>
              <a:rPr b="0" lang="pl-PL" sz="3200" spc="-1" strike="noStrike">
                <a:solidFill>
                  <a:srgbClr val="24829f"/>
                </a:solidFill>
                <a:latin typeface="Arial"/>
              </a:rPr>
              <a:t>architektów informacj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System organizowania internetowych obiektów informacyjnych w grupy mające wspólną cech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2482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24829f"/>
                </a:solidFill>
                <a:latin typeface="Arial"/>
              </a:rPr>
              <a:t>Hierarchicznie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 uporządkowany wykaz kategor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7T11:41:52Z</dcterms:created>
  <dc:creator>M</dc:creator>
  <dc:description/>
  <dc:language>en-US</dc:language>
  <cp:lastModifiedBy>M</cp:lastModifiedBy>
  <dcterms:modified xsi:type="dcterms:W3CDTF">2009-06-02T19:09:29Z</dcterms:modified>
  <cp:revision>33</cp:revision>
  <dc:subject/>
  <dc:title>Inny porządek rzeczy</dc:title>
</cp:coreProperties>
</file>